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580-9971-4AA8-B22C-C1D54A31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D6A-4A95-4B84-9167-80F89635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41F-0CB5-4E35-865B-4E3042E4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556-8C14-4982-BEE7-19DB0CF6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B845A-0CA7-444E-850F-EE5192F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BA954-A2C2-42C1-9A38-6B32413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39665-095B-4E18-B5C4-60B26CA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61880-1C3D-42CA-BCD7-62C9BBC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731E3-9408-4921-BA73-590D97AE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D784C-BC78-4D76-8612-BF7490F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3BD2B-7DDE-47F2-BE60-5D15B44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54E-5497-4A81-BDEA-70D4A8B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CE3B-BC1B-44CF-8E41-A5440ED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062EE-8435-49DD-8314-7DD3BC5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49DC-1B4A-42F0-9D62-8A7B5DF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73E90-AD71-466C-B2EB-F45596C1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7BE3-F175-44CE-B076-B6C2EE3A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EC5-BE67-423C-B050-2848E85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D24-1804-4DCD-AD38-6D806C1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40B-CE11-402F-8DC9-7F34A0A4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79E-E961-4593-8BED-E43BB82F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6B0-B8BD-4746-8260-52638F8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47F-D817-4B17-8AF1-9D0F9211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B80-1EBB-46F3-A746-921FBBA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7A17-BAC7-440E-91BC-DDDB07743D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745B-6930-4F8C-8825-B44085B946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391520" y="480060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na Bai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14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re#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carriage" descr="Princess in carriage. Free faity-tales clipart from www.GaliGifts.com collection"/>
          <p:cNvPicPr/>
          <p:nvPr/>
        </p:nvPicPr>
        <p:blipFill>
          <a:blip r:embed="rId1"/>
          <a:stretch/>
        </p:blipFill>
        <p:spPr>
          <a:xfrm>
            <a:off x="533520" y="320040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71600" y="38088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inc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752480"/>
            <a:ext cx="8839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day there was a princess who dreamed of her mother. She heard her mother, s voice in her dream. That made her very happ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50:24Z</dcterms:created>
  <dc:creator>install</dc:creator>
  <dc:description/>
  <dc:language>en-US</dc:language>
  <cp:lastModifiedBy>install</cp:lastModifiedBy>
  <dcterms:modified xsi:type="dcterms:W3CDTF">2012-04-13T16:10:59Z</dcterms:modified>
  <cp:revision>7</cp:revision>
  <dc:subject/>
  <dc:title>Slide 1</dc:title>
</cp:coreProperties>
</file>